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F8A-BA83-45BE-BF35-55F27A94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45B-A7C0-4F92-A672-7C018AE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9BF-0CD1-4A0C-8AD0-2AD73D7F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D2A-132D-44AB-BBDA-1D27250E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376-A2D4-45EB-AA65-B9A05AE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05F-08D1-4633-A29D-626693FB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A8C-5BD3-4FAF-B971-C9125D32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2BA-0DCD-46CE-83FC-0F39A13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30E-C58A-4DED-9015-A366BFA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FDB-D074-4F1E-825E-5B6BFD7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643-D2CA-4DDD-8590-F3BB15B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BC0-BEE6-4532-9D8D-923341B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431C-7D19-4299-81D0-7642D7C3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，即声音的清晰、响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诵，即背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诵，就是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清晰、响亮的声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结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各种语言手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完善地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达作品思想感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种语言艺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诵是一种传情的艺术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要注意选择那些语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具有形象性而且适于上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文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握作品的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确地把握作品内容，透彻地理解其内在含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是作品朗诵重要的前提和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2996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品创作的背景、作品的主题和情感的基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7360" y="3788640"/>
            <a:ext cx="6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刻、细致、真实的感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囚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叶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人进出的门紧锁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为狗爬出的洞敞开着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一个声音高叫着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——爬出来吧，给你自由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我渴望自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但我深深地知道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人的身躯怎能从狗洞子里爬出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我希望有一天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地下的烈火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将我连这活棺材一齐烧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我应该在烈火与热血中得到永生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皖南事变后，时任新四军军长的叶挺将军，遭到国民党当局长期的无理拘押。写作此诗时，他被囚禁于重庆郊区的红炉厂，此处专门关押高级政治犯，是臭名昭著的中美技术合作所的“禁地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囚歌》一诗浓缩着叶挺将军牢狱生涯的深切体验，是他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对于生命、自由和尊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辩证关系的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悲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，每一句都具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厚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份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人进出的门紧锁着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狗爬出的洞敞开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91628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方面，反动当局绝对不允许被囚者以自由之身保有人的节操和尊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方面，他们又千方百计诱惑受难者以尊严的丧失换取行动的开阔空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停顿、重音、语速、句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说来，热烈，欢快、兴奋、紧张的内容速度快一些；平静、庄重、悲伤、沉重、追忆的内容速度慢一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升调（↑），前低后高，语势上升。一般用来表示疑问、反问、惊异等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降调（↓），前高后低，语势渐降。一般用于陈述句、感叹句、祈使句，表示肯定、坚决、赞美、祝福等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平调。（一），这种调子，语势平稳舒缓，没有明显的升降变化，用于不带特殊感情的陈述和说明，还可表示庄严、悲痛、冷淡等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曲调。全句语调弯曲，或先升后降，或先降后升，往往把句中需要突出的词语拖长着念，这种句调常用来表示讽刺、厌恶、反语、意在言外等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速：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调：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人进出的门紧锁着，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狗爬出的洞敞开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0686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音：人，狗，紧锁，敞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4869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停顿：人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门‖；狗︱，洞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789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音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▲ 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▲ ▲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▲ 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01:58Z</dcterms:created>
  <dc:creator>z</dc:creator>
  <dc:description/>
  <dc:language>en-US</dc:language>
  <cp:lastModifiedBy>z</cp:lastModifiedBy>
  <dcterms:modified xsi:type="dcterms:W3CDTF">2010-10-12T03:21:47Z</dcterms:modified>
  <cp:revision>2</cp:revision>
  <dc:subject/>
  <dc:title>朗诵</dc:title>
</cp:coreProperties>
</file>