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73C-6D05-4105-A9BA-44480B7A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3E1-96AF-4634-AD94-A0AB249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C17-35CD-444E-9D49-5AF9707D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CD5-32C6-43EF-A95A-FCF428F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517-B406-4C53-A654-90A48C7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9D9-0C85-4210-A735-AB73C4B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F7A-40AD-4DF4-8516-ED00858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188-57DE-4B9A-BE2B-C413BEB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E8B-121B-4DC8-98B6-91521AB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54D-E186-43BF-A387-F92DB373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CB2-7228-4E36-9412-39DA62E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126-9E58-4EA1-A9CA-71372F8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C01A-651F-420F-9689-4C18DA773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致橡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36560"/>
            <a:ext cx="914400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我如果爱你——绝不学攀援的凌霄花，借你的高枝炫耀自己；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我如果爱你——绝不学痴情的鸟儿，为绿荫重复单调的歌曲；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也不止象泉源，常年送来清凉的慰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iè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也不止象险峰，增加你的高度，衬托你的威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甚至日光，甚至春雨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不，这些都还不够，我必须是你近旁的一株木棉，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作为树的形象和你站在一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根，相握在地下；叶，相触在云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每一阵风吹过，我们都互相致意，但没有人听懂我们的言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你有你的铜枝铁干，象刀象剑也象戟；我有我红硕的花朵，象沉重的叹息，又象英勇的火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我们分担寒潮风雷霹雳；我们共享雾霭流岚虹霓；仿佛永远分离，却又终身相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这才是伟大的爱情，坚贞就在这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爱，不仅爱你伟岸的身躯，也爱你坚持的位置，足下的土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舒婷的诗，构思新颖，富有浓郁的抒情色彩；语言精美，具有鲜明的个人风格。《致橡树》，是她的一首优美、深沉的抒情诗。它所表达的爱，不仅是纯真的、炽热的、而且是高尚的，伟大的。它象一支古老而又清新的歌曲，拨动着人们的心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</cp:lastModifiedBy>
  <dcterms:modified xsi:type="dcterms:W3CDTF">2010-11-02T03:05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